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7DA1-A765-4F8D-AFE5-7FE659940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574E-2001-4763-AEDA-5CF22FB6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C7A2-A2FC-413A-BA56-90CFE1393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2A4D-8A44-493E-97E9-5849343E5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49B4-2DA0-4B61-BD64-B16947D7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4B28-5283-4F8E-BE5E-E211CACB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4D7C-E64C-4AE1-83A4-13D2641D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FB0C-0F3F-43DD-B453-17ABDDEE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4EA7-F459-4CC3-9CB6-9A283A6A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0610-B9F3-43A1-B356-2A56742F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CA28-CA42-4449-BF62-270DA9A2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A6B9-5F61-47D4-9CBF-241CD659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55C7-5911-4D78-B207-05A52BC01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Nick Riewold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ff00"/>
                </a:solidFill>
                <a:latin typeface="Arial"/>
              </a:rPr>
              <a:t>A.F.L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s is about St Kil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Y FAVORITE PLAYER IS STEPHEN MIL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59280" y="2708280"/>
            <a:ext cx="44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64000" y="393372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2205000"/>
            <a:ext cx="34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Stephen Milne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02:07:16Z</dcterms:created>
  <dc:creator>Admin</dc:creator>
  <dc:description/>
  <dc:language>en-US</dc:language>
  <cp:lastModifiedBy>Admin</cp:lastModifiedBy>
  <dcterms:modified xsi:type="dcterms:W3CDTF">2009-03-19T02:16:13Z</dcterms:modified>
  <cp:revision>3</cp:revision>
  <dc:subject/>
  <dc:title>A.F.L.</dc:title>
</cp:coreProperties>
</file>